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6.gif" ContentType="image/gif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EEC-47C2-4E77-8F77-578FE88E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D08-9420-4760-A8F8-8AABB85C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28E-3B72-4E90-8515-1AADAD46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1DF-19D9-4AAD-9A06-23B6E105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177E-678E-425B-81BB-D308DB77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2C4A-C002-476E-9FCC-53C87E2D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E50A-2672-44AF-B93E-19047EC5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ADAB-326D-4088-9581-7B1D20DC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0242-5661-4ABE-A636-6A82BE5D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A3CF-571D-4399-B3A9-5C2FDCC4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2FAE-FAD3-4D5B-8D8E-C6AC140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AFB-8165-4738-B53A-7EC93AE2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262B-5D1A-41FC-97DB-EC69F16F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C539-27CC-4D18-B852-3C32FFE1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4721-E790-4C19-9E83-048A0370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D00A-12EC-4712-8F30-C4A75900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9B9F-4759-4423-B00A-4646BD3A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41D-65B8-4051-8657-901A24F0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C15-3500-4A1B-828F-0B7F8A91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962-1C66-4FF1-B2F3-895D32F5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ABF-BECC-4DC4-A813-752AFE41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012-10D9-49DD-BA58-A25C3AD9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90C-8A08-413A-B1D7-021366A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C18-476D-4E7D-B496-95FC4C59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4B9-FC41-48F1-9FD5-85CEF8C9C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990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14A4-9082-4190-8807-3D3D1B112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560" y="838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uess The Cove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or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2666520"/>
            <a:ext cx="60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ek 2 Word Wall W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The house is made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 of 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bricks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28920" y="2819520"/>
            <a:ext cx="26956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143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I have a ball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219320"/>
            <a:ext cx="762120" cy="914400"/>
          </a:xfrm>
          <a:prstGeom prst="rect">
            <a:avLst/>
          </a:prstGeom>
          <a:solidFill>
            <a:srgbClr val="4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11430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I have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ball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49546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45720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nt the word as the arrow points to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f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52320" y="26665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u did an amazing Job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0280" y="1581120"/>
            <a:ext cx="34668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45720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of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The book is big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9907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The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book is big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2603520"/>
            <a:ext cx="37180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My dog has black and white spots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447920"/>
            <a:ext cx="1523880" cy="1143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My dog has black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and 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white spots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30520" y="2525760"/>
            <a:ext cx="2660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We go to school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066680"/>
            <a:ext cx="1042920" cy="10432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We go 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to</a:t>
            </a: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 school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360864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The house is made of bricks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1057320" cy="99036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8-06-19T19:58:23Z</dcterms:modified>
  <cp:revision>8</cp:revision>
  <dc:subject/>
  <dc:title>Storybook Adventure</dc:title>
</cp:coreProperties>
</file>